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D0D2-EE58-4E94-AC98-FB018420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ed activities for all grade lev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ny intro and good to see successful differentiation in 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’s of good resources for assessment/forming groups for different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great tools for assessing learning style, interests and affinities to differenti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WebQuest generator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tter place to differentiate than in a WebQu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ood WebQuest generator with an emphasis on special needs instr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xplanation needed here; lot’s of people saying they’re done with Word and use G-Docs exclus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probably used NING for classes at Neumann. Very amenable to the field of educ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ighlight/ stickynote feature looks c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words, puzzles, and… pizz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ictionary with pronounciation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activities to go with the commonly used vocabulary s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’re done with your standardized testing you can use the Member Center to run reports to analyze your horribly-skewed data! Scratch your head with administrators and ask, Why are the post-test scores so much lower when the kids take it in late M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st companies are out to make more money. Easy and f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made rubrics and tools for creating your ow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ic rubrics that jump up in your face!? Well not really but the grading feature is cool. Plus, 143,000 rubrics avail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EF0-E0B8-4B4E-8A3C-F884C0C2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92D-934C-489B-8A35-09B1EFE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142-DC4C-4B9F-B528-5352481A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271-F495-4BED-8093-7F0EB1F3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68D5-B435-475B-B6DD-15E9ED46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C482-7C32-4DC8-B494-AFD7C2AB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CBDB-7EBA-4375-AA58-326989BB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4DBE-2CFC-40CB-8C5C-B942DE4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387-33AE-486D-B223-81B8E445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ACC5-2B7D-40BB-8A33-356C037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9A05-C39E-432E-A6A0-D34C9B1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933-5CE8-4534-B80B-6AA3E4A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8C66-0386-4D85-995B-15D31DF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7C1-E0FA-464E-9CD8-F5F0B5A0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AF94-425D-47B9-8B21-F0FFB8D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F894-91FD-4119-8F91-5F49F5BE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D2D9-2EAC-49BB-ABCE-A1033263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A11E-44AD-44DA-BCBD-DAA8C232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6523-6BB8-412B-AE1C-7660EDA5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C0B4-003B-47C6-B5E5-E3ADE3D8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1CF9-A464-46B1-AEDC-C4A77BF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A18C-03E5-46B6-8D57-836CFEF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491-35FF-4C0C-AB33-0800D36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186A-5D2E-4596-A667-D5CE582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60AC-4EDE-412A-97F7-F4A3921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7024-3B2B-4251-86A9-3E8943F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2BC1-5C5E-4083-A964-D8B0A4D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84AF-8932-46A2-85F1-C775838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EA86-7938-4F6D-9924-9F16255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ED3E-28FB-4B01-AE39-5B595D49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2DA5-DC53-4C80-B8E9-2FCC5FD1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D625-FFC2-4B61-B517-04269A2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AB66-5ECB-4274-9FAA-99D76FB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957-CA0C-4616-B836-4C8A6FA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1B0D-1033-41EF-8E2A-20F50CB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15E1-E287-4209-B755-29B3A4F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0A34-19A4-4C5E-AF39-E2233B18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A2F7-536D-42D9-8671-1BB8A28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A775-6437-496A-8CB2-F368B6B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4CB3-4851-4DF1-9F46-4D09A1C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F2D4-D596-495D-A5CD-FC70EFC4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8E01-0937-455F-9D25-EED440B4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7740-AFA6-4263-BFC9-E08A3CC2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23B-A7C2-4719-A482-17BB198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6FB-4021-4300-A6CA-B2797F4B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F7A-163E-4DA0-A589-ACECFF7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80F-0EAE-4C83-8415-FC72AC0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D51-30C6-4924-B06E-6540960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3E4-E989-4C3C-8F13-2BAAAD5FC8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D80E-2B8D-4D65-A87E-46EE27AD30A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64C-A550-4748-BFC2-D5F98FDB93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DF7-B491-41E6-85F2-8E3476D675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di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-nology.com/web_tools/web_quest/" TargetMode="External"/><Relationship Id="rId3" Type="http://schemas.openxmlformats.org/officeDocument/2006/relationships/hyperlink" Target="http://www.teach-nology.com/web_tools/web_quest/" TargetMode="External"/><Relationship Id="rId4" Type="http://schemas.openxmlformats.org/officeDocument/2006/relationships/hyperlink" Target="http://www.eric.ed.gov/PDFS/EJ750569.pdf" TargetMode="External"/><Relationship Id="rId5" Type="http://schemas.openxmlformats.org/officeDocument/2006/relationships/hyperlink" Target="http://www.specialconnections.ku.edu/cgi-bin/cgiwrap/specconn/main.php?cat=instruction&amp;section=main&amp;subsection=udl/webquest" TargetMode="External"/><Relationship Id="rId6" Type="http://schemas.openxmlformats.org/officeDocument/2006/relationships/hyperlink" Target="http://www.specialconnections.ku.edu/cgi-bin/cgiwrap/specconn/main.php?cat=instruction&amp;section=main&amp;subsection=udl/webquest" TargetMode="External"/><Relationship Id="rId7" Type="http://schemas.openxmlformats.org/officeDocument/2006/relationships/hyperlink" Target="http://www.specialconnections.ku.edu/cgi-bin/cgiwrap/specconn/main.php?cat=instruction&amp;section=main&amp;subsection=udl/webquest" TargetMode="External"/><Relationship Id="rId8" Type="http://schemas.openxmlformats.org/officeDocument/2006/relationships/hyperlink" Target="http://www.specialconnections.ku.edu/cgi-bin/cgiwrap/specconn/main.php?cat=instruction&amp;section=main&amp;subsection=udl/webquest" TargetMode="External"/><Relationship Id="rId9" Type="http://schemas.openxmlformats.org/officeDocument/2006/relationships/hyperlink" Target="http://www.specialconnections.ku.edu/cgi-bin/cgiwrap/specconn/main.php?cat=instruction&amp;section=main&amp;subsection=udl/webquest" TargetMode="External"/><Relationship Id="rId10" Type="http://schemas.openxmlformats.org/officeDocument/2006/relationships/hyperlink" Target="http://www.specialconnections.ku.edu/cgi-bin/cgiwrap/specconn/main.php?cat=instruction&amp;section=main&amp;subsection=udl/webquest" TargetMode="External"/><Relationship Id="rId11" Type="http://schemas.openxmlformats.org/officeDocument/2006/relationships/hyperlink" Target="http://www.specialconnections.ku.edu/cgi-bin/cgiwrap/specconn/main.php?cat=instruction&amp;section=main&amp;subsection=udl/webques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docs" TargetMode="External"/><Relationship Id="rId3" Type="http://schemas.openxmlformats.org/officeDocument/2006/relationships/hyperlink" Target="http://www.google.com/docs" TargetMode="External"/><Relationship Id="rId4" Type="http://schemas.openxmlformats.org/officeDocument/2006/relationships/hyperlink" Target="http://www.google.com/docs" TargetMode="External"/><Relationship Id="rId5" Type="http://schemas.openxmlformats.org/officeDocument/2006/relationships/hyperlink" Target="http://www.diigo.com/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www.diigo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moredpenquin.com/" TargetMode="External"/><Relationship Id="rId3" Type="http://schemas.openxmlformats.org/officeDocument/2006/relationships/hyperlink" Target="http://www.merriam-webster.com/" TargetMode="External"/><Relationship Id="rId4" Type="http://schemas.openxmlformats.org/officeDocument/2006/relationships/hyperlink" Target="http://www.merriam-webster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ccessforall.net/" TargetMode="External"/><Relationship Id="rId3" Type="http://schemas.openxmlformats.org/officeDocument/2006/relationships/hyperlink" Target="http://testmoz.com/" TargetMode="External"/><Relationship Id="rId4" Type="http://schemas.openxmlformats.org/officeDocument/2006/relationships/hyperlink" Target="http://www.rubrics4teachers.com/" TargetMode="External"/><Relationship Id="rId5" Type="http://schemas.openxmlformats.org/officeDocument/2006/relationships/hyperlink" Target="http://www.rcampus.com/indexrubric.cf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di.htm" TargetMode="External"/><Relationship Id="rId3" Type="http://schemas.openxmlformats.org/officeDocument/2006/relationships/hyperlink" Target="http://www.you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hyperlink" Target="http://www.youtube.com/" TargetMode="External"/><Relationship Id="rId6" Type="http://schemas.openxmlformats.org/officeDocument/2006/relationships/hyperlink" Target="http://faculty.otterbein.edu/ckilbane/stateconf/" TargetMode="External"/><Relationship Id="rId7" Type="http://schemas.openxmlformats.org/officeDocument/2006/relationships/hyperlink" Target="http://theinnovativeeducator.blogspot.com/2008/07/using-renzulli-learning-system-to.html" TargetMode="External"/><Relationship Id="rId8" Type="http://schemas.openxmlformats.org/officeDocument/2006/relationships/hyperlink" Target="http://www.teach-nology.com/web_tools/web_quest/" TargetMode="External"/><Relationship Id="rId9" Type="http://schemas.openxmlformats.org/officeDocument/2006/relationships/hyperlink" Target="http://www.teach-nology.com/web_tools/web_quest/" TargetMode="External"/><Relationship Id="rId10" Type="http://schemas.openxmlformats.org/officeDocument/2006/relationships/hyperlink" Target="http://www.eric.ed.gov/PDFS/EJ750569.pdf" TargetMode="External"/><Relationship Id="rId11" Type="http://schemas.openxmlformats.org/officeDocument/2006/relationships/hyperlink" Target="http://www.specialconnections.ku.edu/cgi-bin/cgiwrap/specconn/main.php?cat=instruction&amp;section=main&amp;subsection=udl/webquest" TargetMode="External"/><Relationship Id="rId12" Type="http://schemas.openxmlformats.org/officeDocument/2006/relationships/hyperlink" Target="http://www.specialconnections.ku.edu/cgi-bin/cgiwrap/specconn/main.php?cat=instruction&amp;section=main&amp;subsection=udl/webquest" TargetMode="External"/><Relationship Id="rId13" Type="http://schemas.openxmlformats.org/officeDocument/2006/relationships/hyperlink" Target="http://www.specialconnections.ku.edu/cgi-bin/cgiwrap/specconn/main.php?cat=instruction&amp;section=main&amp;subsection=udl/webquest" TargetMode="External"/><Relationship Id="rId14" Type="http://schemas.openxmlformats.org/officeDocument/2006/relationships/hyperlink" Target="http://www.specialconnections.ku.edu/cgi-bin/cgiwrap/specconn/main.php?cat=instruction&amp;section=main&amp;subsection=udl/webquest" TargetMode="External"/><Relationship Id="rId15" Type="http://schemas.openxmlformats.org/officeDocument/2006/relationships/hyperlink" Target="http://www.specialconnections.ku.edu/cgi-bin/cgiwrap/specconn/main.php?cat=instruction&amp;section=main&amp;subsection=udl/webquest" TargetMode="External"/><Relationship Id="rId16" Type="http://schemas.openxmlformats.org/officeDocument/2006/relationships/hyperlink" Target="http://www.specialconnections.ku.edu/cgi-bin/cgiwrap/specconn/main.php?cat=instruction&amp;section=main&amp;subsection=udl/webquest" TargetMode="External"/><Relationship Id="rId17" Type="http://schemas.openxmlformats.org/officeDocument/2006/relationships/hyperlink" Target="http://www.specialconnections.ku.edu/cgi-bin/cgiwrap/specconn/main.php?cat=instruction&amp;section=main&amp;subsection=udl/webquest" TargetMode="External"/><Relationship Id="rId18" Type="http://schemas.openxmlformats.org/officeDocument/2006/relationships/hyperlink" Target="http://www.ning.com/" TargetMode="External"/><Relationship Id="rId19" Type="http://schemas.openxmlformats.org/officeDocument/2006/relationships/hyperlink" Target="http://www.ning.com/" TargetMode="External"/><Relationship Id="rId20" Type="http://schemas.openxmlformats.org/officeDocument/2006/relationships/hyperlink" Target="http://www.ning.com/" TargetMode="External"/><Relationship Id="rId21" Type="http://schemas.openxmlformats.org/officeDocument/2006/relationships/hyperlink" Target="http://www.diigo.com/" TargetMode="External"/><Relationship Id="rId22" Type="http://schemas.openxmlformats.org/officeDocument/2006/relationships/hyperlink" Target="http://www.diigo.com/" TargetMode="External"/><Relationship Id="rId23" Type="http://schemas.openxmlformats.org/officeDocument/2006/relationships/hyperlink" Target="http://www.diigo.com/" TargetMode="External"/><Relationship Id="rId24" Type="http://schemas.openxmlformats.org/officeDocument/2006/relationships/hyperlink" Target="http://www.google.com/docs" TargetMode="External"/><Relationship Id="rId25" Type="http://schemas.openxmlformats.org/officeDocument/2006/relationships/hyperlink" Target="http://www.google.com/docs" TargetMode="External"/><Relationship Id="rId26" Type="http://schemas.openxmlformats.org/officeDocument/2006/relationships/hyperlink" Target="http://www.google.com/docs" TargetMode="External"/><Relationship Id="rId27" Type="http://schemas.openxmlformats.org/officeDocument/2006/relationships/hyperlink" Target="http://www.armoredpenquin.com/" TargetMode="External"/><Relationship Id="rId28" Type="http://schemas.openxmlformats.org/officeDocument/2006/relationships/hyperlink" Target="http://www.sadlier-oxford.com/vocabulary/games.cfm?level=C" TargetMode="External"/><Relationship Id="rId29" Type="http://schemas.openxmlformats.org/officeDocument/2006/relationships/hyperlink" Target="http://www.sadlier-oxford.com/vocabulary/games.cfm?level=C" TargetMode="External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365040" y="1255680"/>
            <a:ext cx="8626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the sky blue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’s just a matter of reviewing the prope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oo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implementing them with the proper supervis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Differentiated Instructi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internet4classrooms.com/di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ources for differentiating: content, process,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youtube.com/watch?v=FJMkcL6Do0Q&amp;safety_mode=true&amp;persist_safety_mode=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ice video introduction—poor Lil’ Lulu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faculty.otterbein.edu/ckilbane/stateconf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ns of tools/links for differentiating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theinnovativeeducator.blogspot.com/2008/07/using-renzulli-learning-system-to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sessments for grouping—The Renzuli Learning System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Web Ques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teach-nology.com/web_tools/web_quest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n’t know where to start? Here’s help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eric.ed.gov/PDFS/EJ750569.pd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cellent article for differentiating within Web Quests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specialconnections.ku.edu/cgi-bin/cgiwrap/specconn/main.php?cat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instruction&amp;section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main&amp;subsection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udl/webque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b Quest tools for kids with special nee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 Online Communication/ Collabo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google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do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. 3 of Top 100 Tech. Tools for Learning, 201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ning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ing is great for creating learning commun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www.diigo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ke Delicious, but includes a highlight/ sticky note featu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 Vocabulary Strategies and Games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armoredpenquin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st, free, great for students and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merriam-webster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more arguments about pronunciati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sadlier-oxford.com/vocabulary/games.cfm?level=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schools use this series– many activ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Assessment and Rubric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uccessforall.net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od ol’ 4Sight is h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testmoz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ee” isn’t so common with this stuf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ubric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rubrics4teachers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dvertised– saves teachers time and mone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rcampus.com/indexrubric.cf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kes for easy grading to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internet4classrooms.com/di.ht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youtube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http://faculty.otterbein.edu/ckilbane/stateconf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ttp://theinnovativeeducator.blogspot.com/2008/07/using-renzulli-learning-system-to.htm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www.teach-nology.com/web_tools/web_quest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http://www.eric.ed.gov/PDFS/EJ750569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tp://www.specialconnections.ku.edu/cgi-bin/cgiwrap/specconn/main.php?cat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instruction&amp;section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main&amp;subsection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udl/webques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9"/>
              </a:rPr>
              <a:t>www.ning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1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2"/>
              </a:rPr>
              <a:t>www.diigo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4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5"/>
              </a:rPr>
              <a:t>www.google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6"/>
              </a:rPr>
              <a:t>/do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7"/>
              </a:rPr>
              <a:t>www.armoredpenquin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8"/>
              </a:rPr>
              <a:t>http://www.sadlier-oxford.com/vocabulary/games.cfm?level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9"/>
              </a:rPr>
              <a:t>=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merriam-webster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successforall.net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testmoz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rubrics4teachers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rcampus.com/indexrubric.cf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c4lpt.co.uk/recommended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51:51Z</dcterms:created>
  <dc:creator>Brent Monaghan</dc:creator>
  <dc:description/>
  <dc:language>en-US</dc:language>
  <cp:lastModifiedBy>bmonaghan</cp:lastModifiedBy>
  <dcterms:modified xsi:type="dcterms:W3CDTF">2011-04-11T16:46:46Z</dcterms:modified>
  <cp:revision>59</cp:revision>
  <dc:subject/>
  <dc:title>Is the internet a viable tool for student learning?</dc:title>
</cp:coreProperties>
</file>